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8.png" ContentType="image/png"/>
  <Override PartName="/ppt/media/image7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E4CC-B490-482B-BBEC-DE5FDEC69F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4AB8-6EDB-43D5-973A-265EA5F018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E493-CEB4-4DEA-A9B2-38B903528C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F669-78C6-4EAE-8531-0E411D8ACA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849F-D248-4CE3-9BE2-F19E20D7A0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248-8B3A-4BAC-9892-342BBED7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28B-5B27-48AD-B686-DB1BC2C3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81B-E2E4-4BD2-897D-E360C938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30D-176A-428E-B6E1-8DC5C2E4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929C-9C33-40BB-8EBE-AA625B69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B45A-9DEB-4BE1-8286-377B36BA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C565-0248-40B1-98A3-7E6F10FC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4A5D-B2A7-42AD-9E59-D532F84F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DE5A-190E-4D82-B8FA-C8ED5F98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B727-2A59-4F93-B007-683C7836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A94D-E90D-43BF-8E5E-CD1A30A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81A-2487-4E2F-8B6D-341554D8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E863-1E77-48A2-9029-EE7777B0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5AD7-9B95-4D6B-9839-23C4990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C661-F8B3-4C70-8267-4FE0DAE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A569-0890-4C90-833A-6C7500E9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892B-F4EC-4DED-A9A8-14CED7CD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B1E-5C6D-4029-AD97-206D1E26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8CC-D98C-435F-8680-6A1472F8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F4E-48D8-4682-9B6D-D9C39078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667-47E6-401E-AC24-1F8DD191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B6E-18C1-49B3-A9A3-AA63BEB3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F6E-5B65-44B4-85E2-95A40B3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B91-A354-492C-B2D7-DEF1E542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5358-CF7C-43F9-814C-5279523AFAF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CB09-847F-4693-BACE-EAD4589C7C5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5" descr="good_178_1.jpg"/>
          <p:cNvPicPr/>
          <p:nvPr/>
        </p:nvPicPr>
        <p:blipFill>
          <a:blip r:embed="rId1"/>
          <a:stretch/>
        </p:blipFill>
        <p:spPr>
          <a:xfrm>
            <a:off x="428760" y="4929120"/>
            <a:ext cx="2286000" cy="1714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3" name="Рисунок 9" descr="eda_5.jpg"/>
          <p:cNvPicPr/>
          <p:nvPr/>
        </p:nvPicPr>
        <p:blipFill>
          <a:blip r:embed="rId2"/>
          <a:stretch/>
        </p:blipFill>
        <p:spPr>
          <a:xfrm>
            <a:off x="5214960" y="1714680"/>
            <a:ext cx="3718080" cy="2809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4" name="Рисунок 10" descr="iCAT97YUH.jpg"/>
          <p:cNvPicPr/>
          <p:nvPr/>
        </p:nvPicPr>
        <p:blipFill>
          <a:blip r:embed="rId3"/>
          <a:stretch/>
        </p:blipFill>
        <p:spPr>
          <a:xfrm>
            <a:off x="357120" y="1143000"/>
            <a:ext cx="1397160" cy="1689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000160" y="16466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ки, жиры и углеводы,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йдут века, эпохи, годы,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 вам мы прикованы на век,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 вас немыслим человек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7" descr="fruits.jpg"/>
          <p:cNvPicPr/>
          <p:nvPr/>
        </p:nvPicPr>
        <p:blipFill>
          <a:blip r:embed="rId4"/>
          <a:stretch/>
        </p:blipFill>
        <p:spPr>
          <a:xfrm>
            <a:off x="7143840" y="214200"/>
            <a:ext cx="1762200" cy="13334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7" name="Рисунок 8" descr="63.jpg"/>
          <p:cNvPicPr/>
          <p:nvPr/>
        </p:nvPicPr>
        <p:blipFill>
          <a:blip r:embed="rId5"/>
          <a:stretch/>
        </p:blipFill>
        <p:spPr>
          <a:xfrm>
            <a:off x="3000240" y="2714760"/>
            <a:ext cx="1924200" cy="2171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8" name="Рисунок 10" descr="fruktu3.jpg"/>
          <p:cNvPicPr/>
          <p:nvPr/>
        </p:nvPicPr>
        <p:blipFill>
          <a:blip r:embed="rId6"/>
          <a:stretch/>
        </p:blipFill>
        <p:spPr>
          <a:xfrm>
            <a:off x="357120" y="3000240"/>
            <a:ext cx="2381400" cy="1791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09" name="Рисунок 14" descr="med.jpg"/>
          <p:cNvPicPr/>
          <p:nvPr/>
        </p:nvPicPr>
        <p:blipFill>
          <a:blip r:embed="rId7"/>
          <a:stretch/>
        </p:blipFill>
        <p:spPr>
          <a:xfrm>
            <a:off x="3000240" y="5000760"/>
            <a:ext cx="2032200" cy="1685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017960" cy="3013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" descr=""/>
          <p:cNvPicPr/>
          <p:nvPr/>
        </p:nvPicPr>
        <p:blipFill>
          <a:blip r:embed="rId2"/>
          <a:stretch/>
        </p:blipFill>
        <p:spPr>
          <a:xfrm>
            <a:off x="4500720" y="785880"/>
            <a:ext cx="4257360" cy="2838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3"/>
          <a:stretch/>
        </p:blipFill>
        <p:spPr>
          <a:xfrm>
            <a:off x="642960" y="3929040"/>
            <a:ext cx="5000760" cy="1865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Админ\Pictures\dizygotheca-elegantissima.jpg"/>
          <p:cNvPicPr/>
          <p:nvPr/>
        </p:nvPicPr>
        <p:blipFill>
          <a:blip r:embed="rId4"/>
          <a:stretch/>
        </p:blipFill>
        <p:spPr>
          <a:xfrm>
            <a:off x="5857920" y="3863880"/>
            <a:ext cx="2712960" cy="2994120"/>
          </a:xfrm>
          <a:prstGeom prst="rect">
            <a:avLst/>
          </a:prstGeom>
          <a:ln w="38160">
            <a:solidFill>
              <a:srgbClr val="004e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71640" y="620640"/>
          <a:ext cx="6719760" cy="4907160"/>
        </p:xfrm>
        <a:graphic>
          <a:graphicData uri="http://schemas.openxmlformats.org/drawingml/2006/table">
            <a:tbl>
              <a:tblPr/>
              <a:tblGrid>
                <a:gridCol w="6719760"/>
              </a:tblGrid>
              <a:tr h="49093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ты, придя с мороз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ваешь крепкий чай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енько сахарозу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чашке ложкой помешай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ноградную глюкозу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медовую фруктозу, |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молочную лактозу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ят взрослый и малыш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 крахмалом и клетчаткой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 совсем-совсем несладки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же нас не удивишь.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 устроена природа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 тоже углеводы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Ж. Цобкало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13410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Ответить на вопросы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именение в быту углеводов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чему животные могут переваривать целлюлозу, а человек не может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ая  бумага  более предпочтительна для   жирных продуктов: масла, маргарина.  Почему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фриканские племена, индейцы, корейцы и китайцы довольно часто употребляют в пищу насекомых. Есть ли смысл в употреблении такой пищи? Почему?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Разберите жизненные ситуации с точки зрения химии.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которые из модных сейчас пищевых добавок содержат пищевые волокна из целлюлозы.  Объясните с точки зрения химии, почему пища, содержащая пищевые волокна, создает ощущение сытости, хотя содержит мало калори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чему хлебная мякоть ноздреватая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ая связь между клубнями картофеля и автопокрышкой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«Химик не такой должен быть,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оторый дальше дыму и пеплу ничего не видит, а такой, который на основании опытных данных может делать теоретические выводы».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Михаил Васильевич Ломоносов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br>
              <a:rPr sz="4500"/>
            </a:b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Какие  продукты  содержат  и богаты  углеводами?</a:t>
            </a:r>
            <a:br>
              <a:rPr sz="4500"/>
            </a:b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2" name="Содержимое 12" descr="конфеты3.jpg"/>
          <p:cNvPicPr/>
          <p:nvPr/>
        </p:nvPicPr>
        <p:blipFill>
          <a:blip r:embed="rId1"/>
          <a:stretch/>
        </p:blipFill>
        <p:spPr>
          <a:xfrm>
            <a:off x="3143160" y="2143080"/>
            <a:ext cx="2214720" cy="178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3" name="Рисунок 4" descr="кешью.jpg"/>
          <p:cNvPicPr/>
          <p:nvPr/>
        </p:nvPicPr>
        <p:blipFill>
          <a:blip r:embed="rId2"/>
          <a:stretch/>
        </p:blipFill>
        <p:spPr>
          <a:xfrm>
            <a:off x="357120" y="3357720"/>
            <a:ext cx="1809720" cy="981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4" name="Рисунок 5" descr="banany.jpg"/>
          <p:cNvPicPr/>
          <p:nvPr/>
        </p:nvPicPr>
        <p:blipFill>
          <a:blip r:embed="rId3"/>
          <a:stretch/>
        </p:blipFill>
        <p:spPr>
          <a:xfrm>
            <a:off x="6858000" y="4357800"/>
            <a:ext cx="1857240" cy="178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5" name="Рисунок 6" descr="baton_nar_1_mini.jpg"/>
          <p:cNvPicPr/>
          <p:nvPr/>
        </p:nvPicPr>
        <p:blipFill>
          <a:blip r:embed="rId4"/>
          <a:stretch/>
        </p:blipFill>
        <p:spPr>
          <a:xfrm>
            <a:off x="5572080" y="2000160"/>
            <a:ext cx="1714680" cy="164304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6" name="Рисунок 8" descr="кешью 2.jpg"/>
          <p:cNvPicPr/>
          <p:nvPr/>
        </p:nvPicPr>
        <p:blipFill>
          <a:blip r:embed="rId5"/>
          <a:stretch/>
        </p:blipFill>
        <p:spPr>
          <a:xfrm>
            <a:off x="1571760" y="1714680"/>
            <a:ext cx="1428480" cy="14284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7" name="Рисунок 9" descr="бананы жёлт.jpg"/>
          <p:cNvPicPr/>
          <p:nvPr/>
        </p:nvPicPr>
        <p:blipFill>
          <a:blip r:embed="rId6"/>
          <a:stretch/>
        </p:blipFill>
        <p:spPr>
          <a:xfrm>
            <a:off x="2357280" y="4286160"/>
            <a:ext cx="1739880" cy="18417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8" name="Рисунок 10" descr="натюрморт.jpg"/>
          <p:cNvPicPr/>
          <p:nvPr/>
        </p:nvPicPr>
        <p:blipFill>
          <a:blip r:embed="rId7"/>
          <a:stretch/>
        </p:blipFill>
        <p:spPr>
          <a:xfrm>
            <a:off x="7500960" y="1571760"/>
            <a:ext cx="1357200" cy="207144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19" name="Рисунок 13" descr="конфеты 2.jpg"/>
          <p:cNvPicPr/>
          <p:nvPr/>
        </p:nvPicPr>
        <p:blipFill>
          <a:blip r:embed="rId8"/>
          <a:stretch/>
        </p:blipFill>
        <p:spPr>
          <a:xfrm>
            <a:off x="357120" y="4572000"/>
            <a:ext cx="1571760" cy="20001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20" name="Рисунок 14" descr="конфеты.jpg"/>
          <p:cNvPicPr/>
          <p:nvPr/>
        </p:nvPicPr>
        <p:blipFill>
          <a:blip r:embed="rId9"/>
          <a:stretch/>
        </p:blipFill>
        <p:spPr>
          <a:xfrm>
            <a:off x="285840" y="1928880"/>
            <a:ext cx="1066680" cy="981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21" name="Рисунок 15" descr="шоколад.jpg"/>
          <p:cNvPicPr/>
          <p:nvPr/>
        </p:nvPicPr>
        <p:blipFill>
          <a:blip r:embed="rId10"/>
          <a:stretch/>
        </p:blipFill>
        <p:spPr>
          <a:xfrm>
            <a:off x="4357800" y="4214880"/>
            <a:ext cx="2071440" cy="235728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755640" y="1325520"/>
          <a:ext cx="7488360" cy="406404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4064040">
                <a:tc>
                  <a:txBody>
                    <a:bodyPr lIns="110520" rIns="110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чему растения имеют зеленый цве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что такое хлороплас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ую роль играют хлоропласт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то является поставщиков СО2 для фотосинтез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то в растениях называют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«фабрикой» или ( «Зеленой лабораторией»)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поглощения энергии солнечного света и образования органических веществ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ой вывод можно сделать о фотосинтез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кие образуются в процессе фотосинтеза органические вещества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что дальше с этими веществами происходи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0520" marR="110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468360" y="1052640"/>
            <a:ext cx="792000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ая главная реакция планеты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С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6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=   С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6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6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Общая формула углеводов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5" name="Прямоугольник 8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8401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Классификация углеводов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7" name="Прямоугольник 13" descr=""/>
          <p:cNvPicPr/>
          <p:nvPr/>
        </p:nvPicPr>
        <p:blipFill>
          <a:blip r:embed="rId1"/>
          <a:stretch/>
        </p:blipFill>
        <p:spPr>
          <a:xfrm>
            <a:off x="2968560" y="853920"/>
            <a:ext cx="3183120" cy="87156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8" descr=""/>
          <p:cNvPicPr/>
          <p:nvPr/>
        </p:nvPicPr>
        <p:blipFill>
          <a:blip r:embed="rId2"/>
          <a:stretch/>
        </p:blipFill>
        <p:spPr>
          <a:xfrm>
            <a:off x="5821200" y="2365200"/>
            <a:ext cx="3127680" cy="5907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31" descr=""/>
          <p:cNvPicPr/>
          <p:nvPr/>
        </p:nvPicPr>
        <p:blipFill>
          <a:blip r:embed="rId3"/>
          <a:stretch/>
        </p:blipFill>
        <p:spPr>
          <a:xfrm>
            <a:off x="3176640" y="2365200"/>
            <a:ext cx="2693880" cy="5907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32" descr=""/>
          <p:cNvPicPr/>
          <p:nvPr/>
        </p:nvPicPr>
        <p:blipFill>
          <a:blip r:embed="rId4"/>
          <a:stretch/>
        </p:blipFill>
        <p:spPr>
          <a:xfrm>
            <a:off x="109440" y="2365200"/>
            <a:ext cx="3151440" cy="590760"/>
          </a:xfrm>
          <a:prstGeom prst="rect">
            <a:avLst/>
          </a:prstGeom>
          <a:ln w="0">
            <a:noFill/>
          </a:ln>
        </p:spPr>
      </p:pic>
      <p:cxnSp>
        <p:nvCxnSpPr>
          <p:cNvPr id="131" name="Прямая со стрелкой 36"/>
          <p:cNvCxnSpPr/>
          <p:nvPr/>
        </p:nvCxnSpPr>
        <p:spPr>
          <a:xfrm>
            <a:off x="4572000" y="1714680"/>
            <a:ext cx="2823120" cy="714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2" name="Прямая со стрелкой 39"/>
          <p:cNvCxnSpPr>
            <a:stCxn id="127" idx="2"/>
          </p:cNvCxnSpPr>
          <p:nvPr/>
        </p:nvCxnSpPr>
        <p:spPr>
          <a:xfrm flipH="1">
            <a:off x="4523760" y="1725120"/>
            <a:ext cx="37080" cy="640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3" name="Прямая со стрелкой 43"/>
          <p:cNvCxnSpPr>
            <a:stCxn id="127" idx="2"/>
          </p:cNvCxnSpPr>
          <p:nvPr/>
        </p:nvCxnSpPr>
        <p:spPr>
          <a:xfrm flipH="1">
            <a:off x="1685880" y="1725120"/>
            <a:ext cx="2875320" cy="640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Функции углеводов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5" name="Picture 2" descr="C:\Users\ЕГЭ 2019\Desktop\image_5e9eb2f41f2fe.png"/>
          <p:cNvPicPr/>
          <p:nvPr/>
        </p:nvPicPr>
        <p:blipFill>
          <a:blip r:embed="rId1"/>
          <a:stretch/>
        </p:blipFill>
        <p:spPr>
          <a:xfrm>
            <a:off x="571680" y="2071800"/>
            <a:ext cx="2709720" cy="332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Users\Админ\Pictures\kartoshka.jpg"/>
          <p:cNvPicPr/>
          <p:nvPr/>
        </p:nvPicPr>
        <p:blipFill>
          <a:blip r:embed="rId2"/>
          <a:stretch/>
        </p:blipFill>
        <p:spPr>
          <a:xfrm>
            <a:off x="3571920" y="1928880"/>
            <a:ext cx="2962080" cy="2962080"/>
          </a:xfrm>
          <a:prstGeom prst="rect">
            <a:avLst/>
          </a:prstGeom>
          <a:ln w="38160">
            <a:solidFill>
              <a:srgbClr val="546422"/>
            </a:solidFill>
            <a:miter/>
          </a:ln>
        </p:spPr>
      </p:pic>
      <p:pic>
        <p:nvPicPr>
          <p:cNvPr id="137" name="Рисунок 2" descr=""/>
          <p:cNvPicPr/>
          <p:nvPr/>
        </p:nvPicPr>
        <p:blipFill>
          <a:blip r:embed="rId3"/>
          <a:srcRect l="0" t="0" r="-107" b="30680"/>
          <a:stretch/>
        </p:blipFill>
        <p:spPr>
          <a:xfrm>
            <a:off x="5643720" y="4786200"/>
            <a:ext cx="2682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7" descr="гликоген 7.jpg"/>
          <p:cNvPicPr/>
          <p:nvPr/>
        </p:nvPicPr>
        <p:blipFill>
          <a:blip r:embed="rId1"/>
          <a:stretch/>
        </p:blipFill>
        <p:spPr>
          <a:xfrm>
            <a:off x="500040" y="642960"/>
            <a:ext cx="2428920" cy="17143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39" name="Picture 3" descr="C:\Users\Админ\Pictures\75805884_twostriped_grasshopper.jpg"/>
          <p:cNvPicPr/>
          <p:nvPr/>
        </p:nvPicPr>
        <p:blipFill>
          <a:blip r:embed="rId2"/>
          <a:stretch/>
        </p:blipFill>
        <p:spPr>
          <a:xfrm>
            <a:off x="3071880" y="642960"/>
            <a:ext cx="2819160" cy="2914560"/>
          </a:xfrm>
          <a:prstGeom prst="rect">
            <a:avLst/>
          </a:prstGeom>
          <a:ln w="28440">
            <a:solidFill>
              <a:srgbClr val="546422"/>
            </a:solidFill>
            <a:miter/>
          </a:ln>
        </p:spPr>
      </p:pic>
      <p:pic>
        <p:nvPicPr>
          <p:cNvPr id="140" name="Picture 2" descr="C:\Users\ЕГЭ 2019\Desktop\474920.jpg"/>
          <p:cNvPicPr/>
          <p:nvPr/>
        </p:nvPicPr>
        <p:blipFill>
          <a:blip r:embed="rId3"/>
          <a:stretch/>
        </p:blipFill>
        <p:spPr>
          <a:xfrm>
            <a:off x="6500880" y="642960"/>
            <a:ext cx="1781280" cy="313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upload.wikimedia.org/wikipedia/commons/6/6e/Natural_gum_of_plum_tree_01.jpg"/>
          <p:cNvPicPr/>
          <p:nvPr/>
        </p:nvPicPr>
        <p:blipFill>
          <a:blip r:embed="rId4"/>
          <a:stretch/>
        </p:blipFill>
        <p:spPr>
          <a:xfrm>
            <a:off x="785880" y="3571920"/>
            <a:ext cx="3632040" cy="2398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5"/>
          <a:stretch/>
        </p:blipFill>
        <p:spPr>
          <a:xfrm>
            <a:off x="4643280" y="3857760"/>
            <a:ext cx="36118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2:52Z</dcterms:created>
  <dc:creator>1</dc:creator>
  <dc:description/>
  <dc:language>en-US</dc:language>
  <cp:lastModifiedBy>USER</cp:lastModifiedBy>
  <dcterms:modified xsi:type="dcterms:W3CDTF">2021-02-26T12:00:17Z</dcterms:modified>
  <cp:revision>250</cp:revision>
  <dc:subject/>
  <dc:title>Слайд 1</dc:title>
</cp:coreProperties>
</file>